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76E91-DED0-4B61-969A-EBB0ACEF8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8B5B9-C5DB-42C6-A423-A2466EAFF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31869-1452-4BEC-B772-2168B4173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9F28E-D0E3-4271-B749-0C662F0EB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48477-E144-452D-AFBA-1A9B5730C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C645B-1B9A-477B-A59E-3118281CE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D4E39-86B0-4E4F-B91A-F3340D620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E409D-CEE0-465F-8CC1-F30E1FE25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D1F79-9CA4-4103-8A51-C876348D6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B6705-592E-43B4-936E-9690E8A73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09199-F326-4D36-99B0-9058EABC5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6A6D6-C9A3-43CB-9E85-3F733260D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74D1A-498F-4127-93D9-8311C426D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F1E26-17AB-4AA9-BD93-3BDEDEF40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FC5CA-B9B3-4801-813C-B3A3CBC13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DDBE8-66DE-4E97-9B3B-5C8619DEE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D3077-04CF-4421-8081-3BD8BC88D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9019D-3B17-4B84-B63D-A05074560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A7C8E-0538-494F-B3E3-12319FC65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3FCF5-ADDB-453C-BC5E-FC2BFF3C7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5341D-C3B7-428D-B778-8642B5841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9263E-43EC-4A7B-8C73-6681B04A2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429EB-1E0C-4F0C-A1D2-D491ECCAE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C31B3-799B-4502-AC61-1C2719CFB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0371-2D36-4E46-A142-8B2C2345BF91}"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A08BF-4932-4C7D-81B2-13A9B4309033}"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Middle School Grades 6-8</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Advanced Features of Inspiration</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k selected participants to share particularly good examples of their work.</a:t>
            </a:r>
            <a:br>
              <a:rPr sz="3200"/>
            </a:br>
            <a:r>
              <a:rPr b="0" lang="en-US" sz="3200" spc="-1" strike="noStrike">
                <a:solidFill>
                  <a:srgbClr val="212164"/>
                </a:solidFill>
                <a:latin typeface="Arial"/>
              </a:rPr>
              <a:t>Lead a discussion about how this work addresses the focusing questions. </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nspiration is a great way to improve our graphic organizers. Many of students here have attractive, original diagrams that really illustrate their ideas.  </a:t>
            </a:r>
            <a:endParaRPr b="0" lang="en-US" sz="3200" spc="-1" strike="noStrike">
              <a:solidFill>
                <a:srgbClr val="212164"/>
              </a:solidFill>
              <a:latin typeface="Arial"/>
            </a:endParaRPr>
          </a:p>
        </p:txBody>
      </p:sp>
      <p:sp>
        <p:nvSpPr>
          <p:cNvPr id="114"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77000"/>
          </a:bodyPr>
          <a:p>
            <a:pPr marL="263880" indent="-2638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he advanced features simplify the task of creating a graphic organizer. They also make the graphic organizer more visually attractive.</a:t>
            </a:r>
            <a:endParaRPr b="0" lang="en-US" sz="2800" spc="-1" strike="noStrike">
              <a:solidFill>
                <a:srgbClr val="212164"/>
              </a:solidFill>
              <a:latin typeface="Arial"/>
            </a:endParaRPr>
          </a:p>
          <a:p>
            <a:pPr marL="263880" indent="-2638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nserting graphics into inspiration can be done through the top menu or the side toolbar.</a:t>
            </a:r>
            <a:endParaRPr b="0" lang="en-US" sz="2800" spc="-1" strike="noStrike">
              <a:solidFill>
                <a:srgbClr val="212164"/>
              </a:solidFill>
              <a:latin typeface="Arial"/>
            </a:endParaRPr>
          </a:p>
          <a:p>
            <a:pPr marL="263880" indent="-2638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dvanced features make our graphic organizers more personal and allow us to present a clear, coherent theme.  </a:t>
            </a:r>
            <a:endParaRPr b="0" lang="en-US" sz="2800" spc="-1" strike="noStrike">
              <a:solidFill>
                <a:srgbClr val="212164"/>
              </a:solidFill>
              <a:latin typeface="Arial"/>
            </a:endParaRPr>
          </a:p>
          <a:p>
            <a:pPr marL="263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3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3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3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638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What is the purpose of the advanced features in Inspiration?</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How can I insert graphics into my graphic organizer?</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What are some advantages to the advanced features?</a:t>
            </a: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In this session, we will discover the benefits of adding graphics to your graphic organizer in Inspiration.  In the past, we discovered that Inspiration allowed us to organize our ideas.  It was a great way to make a visual outline with our computer.  Now, we will add graphics and make notes on our links. This will improve our graphic organizer and make them presentable for the class.  </a:t>
            </a:r>
            <a:br>
              <a:rPr sz="2400"/>
            </a:br>
            <a:br>
              <a:rPr sz="2400"/>
            </a:br>
            <a:r>
              <a:rPr b="0" i="1" lang="en-US" sz="2400" spc="-1" strike="noStrike">
                <a:solidFill>
                  <a:srgbClr val="212164"/>
                </a:solidFill>
                <a:latin typeface="Arial"/>
              </a:rPr>
              <a:t> </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Watch me as I show you how to insert graphics. Notice, it is as simple as a few clicks of the mouse.  The rapid fire button is also a great tool.  You can produce quickly many bubbles with ideas. This saves you time from individually creating each bubble and linking it to the main idea.  The add note in link feature is terrific because it allows us to demonstrate the flow of information from one bubble to the next.</a:t>
            </a: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Now it is your turn to try.  I want you to make graphic organizer that includes the following: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One main idea</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Three subtopics using quickfir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Each bubble should have a graphic</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One of the three bubbles should have a custom bubble related to your theme.</a:t>
            </a: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Take the next 20 minutes to complete the graphic organizer as outlined below.  .</a:t>
            </a:r>
            <a:br>
              <a:rPr sz="2000"/>
            </a:br>
            <a:r>
              <a:rPr b="0" i="1"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Participants will...</a:t>
            </a: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Inserting Graphics</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1 – Click on bubble</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2- Select a graphic on the tools menu</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3- Click top arrows to select different graphics</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o insert custom graphics</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1- Go to Top Menu – Edit</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2- Select Insert Graphic- Select graphic- Click Open</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3- Drag graphic borders with mouse to resize</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Rapid Fire Button</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1- Type an idea in a bubble.</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2- Click the rapid fire button on the lower top menu</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3- Type another idea</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4- Click enter</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5- Repeat the process until all topics are complete</a:t>
            </a:r>
            <a:endParaRPr b="0" lang="en-US" sz="2000" spc="-1" strike="noStrike">
              <a:solidFill>
                <a:srgbClr val="212164"/>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Add note on Link</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1- Click on actual link- text box will appear</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2- Type in box</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3- Click outside of box</a:t>
            </a:r>
            <a:br>
              <a:rPr sz="2000"/>
            </a:br>
            <a:br>
              <a:rPr sz="2000"/>
            </a:br>
            <a:r>
              <a:rPr b="0" i="1" lang="en-US" sz="2000" spc="-1" strike="noStrike">
                <a:solidFill>
                  <a:srgbClr val="212164"/>
                </a:solidFill>
                <a:latin typeface="Arial"/>
              </a:rPr>
              <a:t> </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8-05-16T15:33:37Z</dcterms:modified>
  <cp:revision>4</cp:revision>
  <dc:subject/>
  <dc:title>Workshop Title</dc:title>
</cp:coreProperties>
</file>